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702-BF3A-4A3D-B2C7-5A03799D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898-BD8A-49E9-A952-4F593FF0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323-94AA-427E-AF93-FD3A3A80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199-DA1D-4914-AFAD-8B54195F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F06-D068-468A-AC48-50234323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E7D-E9A4-45EA-98ED-E8F68AF2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C24-BA39-4EEE-A887-E532EF71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6CA-D435-4AB5-81E6-94CC0E0F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113-83D3-48F1-81FB-0CB31F72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726-955C-401B-90EC-6192FD8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A6A-6053-4AF4-A7BA-5EF60BC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5BD-5E3B-44DC-A559-2694136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922D-09B2-4D4E-A36D-4BE7583CDB7C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ding Through th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Diagram 18"/>
          <p:cNvGrpSpPr/>
          <p:nvPr/>
        </p:nvGrpSpPr>
        <p:grpSpPr>
          <a:xfrm>
            <a:off x="876960" y="1029600"/>
            <a:ext cx="7299000" cy="5120280"/>
            <a:chOff x="876960" y="1029600"/>
            <a:chExt cx="7299000" cy="5120280"/>
          </a:xfrm>
        </p:grpSpPr>
        <p:sp>
          <p:nvSpPr>
            <p:cNvPr id="119" name="_s1028"/>
            <p:cNvSpPr/>
            <p:nvPr/>
          </p:nvSpPr>
          <p:spPr>
            <a:xfrm>
              <a:off x="3715560" y="1461960"/>
              <a:ext cx="4460400" cy="46879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_s1029"/>
            <p:cNvSpPr/>
            <p:nvPr/>
          </p:nvSpPr>
          <p:spPr>
            <a:xfrm>
              <a:off x="5105160" y="1029600"/>
              <a:ext cx="137556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ooks/Text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_s1030"/>
            <p:cNvSpPr/>
            <p:nvPr/>
          </p:nvSpPr>
          <p:spPr>
            <a:xfrm>
              <a:off x="876960" y="1461960"/>
              <a:ext cx="4594680" cy="46879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_s1031"/>
            <p:cNvSpPr/>
            <p:nvPr/>
          </p:nvSpPr>
          <p:spPr>
            <a:xfrm>
              <a:off x="2619360" y="1029600"/>
              <a:ext cx="11430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 Box 25"/>
          <p:cNvSpPr/>
          <p:nvPr/>
        </p:nvSpPr>
        <p:spPr>
          <a:xfrm>
            <a:off x="1295280" y="2214720"/>
            <a:ext cx="26672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one can publish a Web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one checks to see if the information is true or fal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re are millions of places to look for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ing the Internet is much qu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narrow down what you’re looking for more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Internet uses search eng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3809880" y="2000160"/>
            <a:ext cx="175284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provi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our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are view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million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5486400" y="2214720"/>
            <a:ext cx="25495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book has to be published by a publishing comp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ditors check and verify the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oking for a book can be more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have to visit a libr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library uses the Dewey Decimal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8440" y="228600"/>
            <a:ext cx="79102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regular 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1295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9072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regular search engine, like Google or Yahoo!, searches the Internet based on a given search term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yping “The History of Chocolate” into Google will give you 621,000 “hits” or sites to visit fo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the same term into Yahoo!, and you come up with 76,500,000 h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228600"/>
            <a:ext cx="79102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etasear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1295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9072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tasearch is something that has the ability to search several search engines (like Google, Yahoo!, or MS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actiSearch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www.cactisearch.com) is a metasearch engine that will search Google, Yahoo!, MSN, and Ask.com all at onc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ther Sear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13880" y="1571400"/>
            <a:ext cx="7858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lust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www.clusty.com) is a search engine that groups search results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ego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Brainboos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www.brainboost.com) is a search engine that allows you to type 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s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rather than a search t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KartO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(www.kartoo.com) is a search engine that shows your information 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p forma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mart Sear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13880" y="1857240"/>
            <a:ext cx="78584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 algn="ctr">
              <a:spcBef>
                <a:spcPts val="726"/>
              </a:spcBef>
              <a:buClr>
                <a:srgbClr val="0000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Internet search engines also allow you to use a set of words or symbols to narrow your search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– when you want to find two words together. For example “chocolate AND history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R – when you can accept a couple of words. For example, “chocolate OR cacao OR coco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(minus sign) – use when you want to exclude a word. For example, “chocolate - recip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uotations” – use quotation marks when you are searching for an exact phr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30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7920" y="1295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9072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28760" y="928800"/>
          <a:ext cx="8143920" cy="5500440"/>
        </p:xfrm>
        <a:graphic>
          <a:graphicData uri="http://schemas.openxmlformats.org/drawingml/2006/table">
            <a:tbl>
              <a:tblPr/>
              <a:tblGrid>
                <a:gridCol w="387360"/>
                <a:gridCol w="5613120"/>
                <a:gridCol w="1071720"/>
                <a:gridCol w="1071720"/>
              </a:tblGrid>
              <a:tr h="146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pe Detector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checklist to help surfers begin determining if information found on a website is true or not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ebsi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stwor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stion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 large companies you know advertise on the si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there any ‘dead links’, or links to ‘moved pages’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the site’s authors experts in the subject? (Do they have any credentials or experience around the topic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site professional (grammar and typing errors are not present or very minimal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there links and references to other websites, resources and experts that corroborate this informat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resource available in another forma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23:37:24Z</dcterms:created>
  <dc:creator>mbourke</dc:creator>
  <dc:description/>
  <dc:language>en-US</dc:language>
  <cp:lastModifiedBy>mbobeff</cp:lastModifiedBy>
  <dcterms:modified xsi:type="dcterms:W3CDTF">2009-07-20T00:48:05Z</dcterms:modified>
  <cp:revision>4</cp:revision>
  <dc:subject/>
  <dc:title>What is a metasearch?</dc:title>
</cp:coreProperties>
</file>